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6.jpeg" ContentType="image/jpeg"/>
  <Override PartName="/ppt/media/image8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42F-00DB-43D2-B839-B02D9286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72E-0D8D-485D-B7ED-9CCBFF4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44AF7-6DD8-4463-A993-AF6B292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2BFB5-392E-4854-AD01-AA084354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D512C-9C4B-48D0-8026-F6B03901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EB4FB-BCAA-4175-AF42-4152F5C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A0577-837F-4E73-8841-BF7E804C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77FAE-3D74-4621-87F6-C62C754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47F61-B918-487B-ACED-FCC12227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42D7C-71D6-473B-BACD-7B1F7AC2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66417-A29A-4F76-B546-45CCBE53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AD050-290B-4C0C-BAF6-4DA18EC7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4FB-457A-49ED-9373-03A47D7C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744AF-3CE1-4495-B54D-0BDC3115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2FB86-02D1-448E-A249-44E95176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C386A-2A8E-4F55-A506-07565EFE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E046A-5B9D-4D13-820A-55BFC9E2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F14AF-D33A-43E5-BB4E-51649673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522A0-3B4D-4F6E-A884-46618513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9ACE6-202C-4837-B2A3-7B1B50CD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6B274-973F-4C4C-B61C-A0064878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D4A51-9E23-4974-856D-49BB562D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4F12E-8F1B-4FEA-A975-1C6FF9A2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A41-C361-41F3-849D-37052636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E3FB5-1D64-494D-B9EB-822B5DA2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38FEE-8EB2-4AE4-BE0C-B268A813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D43D4-E13D-4D9C-8263-2546D841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7FDFA-E179-49DE-B6E7-AB56E9FC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E1355-5C9D-4F44-8B06-B4694478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1D3A9-92BE-4ACD-B85C-94090919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3A75F-7BCB-4B77-A69C-610CB9A1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AAADB-7791-461D-8263-41506EF8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27105-B9B6-4592-8FA8-3D10D7D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C992D-4D34-4FA0-9B83-8AD96321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BBB7-10EF-489B-B552-FAF906CA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B2FB6-0592-4FA4-8EF4-5A9AFCB3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AA2B7-DC6F-4489-B593-5B8BBD4A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16DB3-6764-41B8-BB67-0C59DE47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20C5A-75BB-49E0-87F9-F7B476FD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89B24-18F0-4D95-AE19-B766FF79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1F393-9C44-4E7B-B80D-1F0AC673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53DEA-8AE9-4D74-B698-F6BE30B2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2CDE5-0087-47A1-ACA0-355D22D9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968C2-81C7-4C2E-B18F-BD3BF337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8601C-3E8C-4EA5-9597-D06FEFEE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9DC5-701C-4679-B4B6-44278294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26AE0-E45B-40CF-9AEB-A8CA11F0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5F3E4-AC4B-45DB-A2C4-9DEB5315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1F368-4D85-4E1E-B001-C150232D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FDE58-BD19-447A-A7B6-4FF20343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FACAC-7C20-4DF5-8280-10BD91A1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CF10-C71E-46B2-B55B-E69AFB11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1A37-4274-42C2-80DB-3DB46303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511D-0DB9-4B08-B05A-B8F94EA3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C003-3B4A-45E2-9C6C-D25BDF25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1254-6E62-4A70-95EC-F12D452C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7F1-826E-48C4-8FB9-432235BC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5087-5218-4DDC-9885-E1B4A95A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91C2-70C2-471F-8017-32F38ECB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B904-9449-40EB-802D-7D1D703A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05CA-5DE4-45BA-A250-F5F3CE63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7493-DB6B-4645-95E3-89C165DC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018B-B4F5-4ACA-A97D-5D9949A8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9058-2E72-43B8-B465-7C6E027D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F105-6A51-4EA8-B879-1CB8B499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0A08-135C-4AAD-A567-A34E225B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76613-B96A-4057-91B6-789C973C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70D-ABE6-4D20-8295-75684C71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789B-25A4-4433-9F26-1E6B6D31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0B99-2F50-41B9-9E72-86935742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165BC-9232-494B-AADE-DAE09888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A76F-6A48-4985-BB86-69D17631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4DD2-2ECA-440F-83A5-E9D026D0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B2150-1D8D-4096-A4A9-6487575F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11BF-0B3B-4D48-90C8-732B88BE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1D079-6991-405A-A624-2E305A32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94C11-65D4-45BF-84EC-67DB4A53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DACF-60C2-4240-8529-1AFAA750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D46-F50A-4709-94E0-A36243C9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F1194-7E0A-48B0-818E-475B70F3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0553-CA91-4927-8A3F-EC4F0426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91C61-1C89-4422-B322-59A4D773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3DB77-284A-4978-B056-6BD17C32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42518-8452-4076-87CB-1A1D45E9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2FE7-8696-4890-9DCD-D10C8A5C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A9495-7B04-4E17-A458-843573EA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5E02-C8A3-4983-96C9-30626E39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6FCCB-974C-4CB6-90F2-A9B68D18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F76AB-2753-4E2A-810E-0435E359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C5C-5D8A-46F2-B47A-4FA4D262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AF2EC-0983-4C1A-9E59-00A6D6F3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9A587-9D5A-4EAE-9AA2-91276D03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51FCE-096E-4F64-9D9E-44C7E854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4E4ED-4830-4823-8DC0-ADBA5F4E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99EF6-3EFE-4D48-A79C-0AAAD9C0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E6904-95C2-41B4-A547-A46C7D18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FBE5-A87B-4B17-B267-E37D058B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706CE-8118-4D7A-94B1-A2FB902E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0074D-8B5E-4A60-8786-ED795485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B4F7B-BCFE-451C-8B68-97F76281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C1B-4625-47C1-8723-33B43E50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D684E-2B61-4865-844E-E61CECEB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35797-F31E-4477-813B-15004DB7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C66EA-C1B8-4212-AAE1-4CA3B72A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9414D-656C-4C51-BF88-DEE59C83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C63F8-6330-4AED-AC3E-075848FB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CF276-23BD-4E64-A6E0-43AF8E6F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C48A5-63BF-4471-883C-6A2CAAA9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63E83-C17A-4BE2-821B-3102EA9C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494C8-B133-4649-BAC8-35CB3A46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C261C-1174-4D2B-93B7-C28B80B5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324-F260-414C-9C8E-7346231C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3C62C-B1A5-4ACF-9FE7-3E7937A6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06817-F1DC-4B2A-832B-2157A3A0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3C72-EC3C-427E-9F35-D91130E1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26DDD-0FD9-4B2B-92F3-464845F5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5F2F8-D89B-4085-ADCD-2910533D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3D021-D0E6-49CD-900E-1DF77668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BAB2E-52E5-4F61-B7E9-69539663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E89DE-816F-47ED-98F0-EA3468B7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57F79-F3EC-4CCA-97A4-7D9D9403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7F646-30EF-4DE0-9933-DB97E831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E0C-1521-4D7C-9D7B-76710A14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32A72-4485-4F4D-B77E-7604069A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630D0-54FE-44DA-B9E9-F6A3CE3E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727D4-B00C-44CC-B543-BC090FB0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5F60C-E2FC-42C9-8CE6-7806D277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6BD19-2823-4325-ACFC-633BB063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A4D87-EFB2-4A51-9010-A25D4F12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06DEF-2220-4DB6-8A1B-4B1C7271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8CCF1-3D22-47A9-9ED8-11C4FF4A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894A4-6FBD-49E1-9D67-FD13C293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D3AEC-988F-409E-AC24-C59CE57D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25E-A75B-4D0B-8718-5D687F97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2CB4F-BF19-4A21-ABAD-4C7A3AA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88A6E-A5D0-422D-839C-9B20207B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874CF-9C5E-48D0-9343-2C63D826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A340F-8ED0-4918-A7C3-9EBB16F8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28777-2517-40B8-B465-E7448579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8BBFC-F437-4E26-A5D4-AB0A9F8D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7F69-61F7-4FAD-9228-1758C0F8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71251-EB6F-48CE-B8BF-0789BD58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3E95B-49F4-4D98-BE43-198500B4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818BC-1BCA-4235-86CF-DFB1D5FB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5F60-CEDF-49CD-9988-7D5880936E2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C2CE-10DE-48C9-B517-E872D6FB6CE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45FB-9355-4F05-A7E1-EDF5BCA838E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31C6-6E01-4BE0-9990-AB22E0D6A8A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3E55-CAC7-4ED7-B216-7506DF8012E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11FF-B097-4A93-8434-848CF7FD58A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7F5B-6D2C-486F-A36B-171238BFA91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4DF8-62FB-4D1B-AD4F-8F48AE565C9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116B-B67F-468D-B007-33D09E5D3BB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3AFA-1F97-4CD9-8B9E-8E6D6140593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5040-410C-4E26-8620-00879E98072D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6BEF-F038-4677-A57B-2C580848A06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6" descr="C:\Users\Godissluv\AppData\Local\Microsoft\Windows\Temporary Internet Files\Content.IE5\LSPHXEYT\MC900056792[1].wmf"/>
          <p:cNvPicPr/>
          <p:nvPr/>
        </p:nvPicPr>
        <p:blipFill>
          <a:blip r:embed="rId1"/>
          <a:stretch/>
        </p:blipFill>
        <p:spPr>
          <a:xfrm>
            <a:off x="609480" y="2438280"/>
            <a:ext cx="7786800" cy="336708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371240" y="3123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NERLYNE ST. PIER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WILBERTA WILLIA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EDUCATION 702.22 – FALL 20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Georgia"/>
              </a:rPr>
              <a:t>Student-Centered vs. Teacher Centered Instruction: Are our instructional approach failing our students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spd="med">
    <p:wipe dir="d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04040"/>
                </a:solidFill>
                <a:latin typeface="Georgia"/>
              </a:rPr>
              <a:t>Table of Cont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atement of the Proble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view of Related Literatur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atement of Hypothesi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C:\Users\Godissluv\AppData\Local\Microsoft\Windows\Temporary Internet Files\Content.IE5\3DYN1UD3\MC900056680[1].wmf"/>
          <p:cNvPicPr/>
          <p:nvPr/>
        </p:nvPicPr>
        <p:blipFill>
          <a:blip r:embed="rId1"/>
          <a:stretch/>
        </p:blipFill>
        <p:spPr>
          <a:xfrm>
            <a:off x="6611760" y="5562720"/>
            <a:ext cx="2262240" cy="129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C:\Users\Godissluv\AppData\Local\Microsoft\Windows\Temporary Internet Files\Content.IE5\LSPHXEYT\MC900060317[1].wmf"/>
          <p:cNvPicPr/>
          <p:nvPr/>
        </p:nvPicPr>
        <p:blipFill>
          <a:blip r:embed="rId2"/>
          <a:stretch/>
        </p:blipFill>
        <p:spPr>
          <a:xfrm>
            <a:off x="152280" y="152280"/>
            <a:ext cx="2062440" cy="106704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Georgia"/>
              </a:rPr>
              <a:t>Statement of the Problem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4560" y="1371240"/>
            <a:ext cx="850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Georgia"/>
              </a:rPr>
              <a:t>Inner-City Public schools are failing our students, particularly minority students from low-income backgrounds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Georgia"/>
              </a:rPr>
              <a:t>Educational inequality our students are facing in our urban public schools is our greatest challenge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Georgia"/>
              </a:rPr>
              <a:t>We must work towards closing the achievement gap between low-income students and high-income students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Georgia"/>
              </a:rPr>
              <a:t>Are our teaching styles failing to meet the needs of our students?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Georgia"/>
              </a:rPr>
              <a:t>Do students perform better in a teacher-centered instructional environment or student-centered instructional environment?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wipe dir="d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04040"/>
                </a:solidFill>
                <a:latin typeface="Georgia"/>
              </a:rPr>
              <a:t>Review of Related Liter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rown, K.L. (2003).  From teacher-centered to learner-centered curriculum: improving learning in diverse classrooms.  Education (Chula Vista, Calif.).  Volume 124 (1), 49-54.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rush, T., &amp; Saye, J. (2000). Implementation and Evaluation of Student-Centered Learning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Unit: A Case Study.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Educational Technology Research and Development, Volume 48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(3), 79-100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uban, L.  (2007).  Hugging the middle: teaching in an era of testing and accountability, 1980 2005.  Education Policy Analysis Archives, Volume 15 (1), 1-27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Garrett, T. (2008). Student-centered and teacher-centered classroom management: A case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tudy of three elementary teachers.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Journal of Classroom Interaction, volume 43(1),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34-47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Hertzog, N. B. (2007). Transporting pedagogy: Implementing the project approach in two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irst-grade classrooms.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Journal of Advanced Academics.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Volume 18(4), 530-564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5" descr="http://www.cooperativeindividualism.org/dewey-john-2.gif"/>
          <p:cNvPicPr/>
          <p:nvPr/>
        </p:nvPicPr>
        <p:blipFill>
          <a:blip r:embed="rId1"/>
          <a:stretch/>
        </p:blipFill>
        <p:spPr>
          <a:xfrm>
            <a:off x="304920" y="152280"/>
            <a:ext cx="742680" cy="990720"/>
          </a:xfrm>
          <a:prstGeom prst="rect">
            <a:avLst/>
          </a:prstGeom>
          <a:ln w="0">
            <a:noFill/>
          </a:ln>
        </p:spPr>
      </p:pic>
      <p:sp>
        <p:nvSpPr>
          <p:cNvPr id="618" name="TextBox 4"/>
          <p:cNvSpPr/>
          <p:nvPr/>
        </p:nvSpPr>
        <p:spPr>
          <a:xfrm>
            <a:off x="152280" y="1066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w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9" descr="http://upload.wikimedia.org/wikipedia/en/3/37/Ed_hirsch_jr.png"/>
          <p:cNvPicPr/>
          <p:nvPr/>
        </p:nvPicPr>
        <p:blipFill>
          <a:blip r:embed="rId2"/>
          <a:stretch/>
        </p:blipFill>
        <p:spPr>
          <a:xfrm>
            <a:off x="8001000" y="152280"/>
            <a:ext cx="660240" cy="990720"/>
          </a:xfrm>
          <a:prstGeom prst="rect">
            <a:avLst/>
          </a:prstGeom>
          <a:ln w="0">
            <a:noFill/>
          </a:ln>
        </p:spPr>
      </p:pic>
      <p:sp>
        <p:nvSpPr>
          <p:cNvPr id="620" name="TextBox 8"/>
          <p:cNvSpPr/>
          <p:nvPr/>
        </p:nvSpPr>
        <p:spPr>
          <a:xfrm>
            <a:off x="7924680" y="1066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D. Hirsc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04040"/>
                </a:solidFill>
                <a:latin typeface="Georgia"/>
              </a:rPr>
              <a:t>Review of Related Liter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Johnson, A., Kimball, R., Melendez, B., Myers, L., Rhea, K., &amp; Travis, B. (2009). Breaking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th tradition: preparing faculty to teach in a student-centered or problem-solving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nvironment. 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PRIMUS, Volume 19(2), 146-160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ichael, R., &amp; And, O. (1994). Promoting achievement in child centered education: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valuation of a non-Graded, multi-age, continuous progress primary school (K-3).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trieved from ERIC databas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cak, G. (2010). The Effect of Learning Stations on the Level of Academic Success and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tention of Elementary School Students.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New Educational Review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(3), 146-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56. Retrieved from Education Research Complete databas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assman, R. (2000). Pressure cooker: experiences with student-centered teaching and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arning in high-stakes assessment environments. Retrieved from ERIC databas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assman, R., &amp; Duran-Klenclo, P. (2002). Teachers talking about change: reflection as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essional development. Retrieved from ERIC databas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7" descr="http://4.bp.blogspot.com/_fPoWZ33QqG4/Seff_OByLiI/AAAAAAAAEFE/SHMeU_CWlmY/s400/Maria_Montessori.jpg"/>
          <p:cNvPicPr/>
          <p:nvPr/>
        </p:nvPicPr>
        <p:blipFill>
          <a:blip r:embed="rId1"/>
          <a:stretch/>
        </p:blipFill>
        <p:spPr>
          <a:xfrm>
            <a:off x="228600" y="152280"/>
            <a:ext cx="768240" cy="9907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http://www.iasd.cc/piper/PiperJill_ITspec_cert/IT%20Portfolio/Portfolio_Pages/HistAndPhilFall06website/Ch8/8-DarraghCurtin/Diane%20Ravitch.jpg"/>
          <p:cNvPicPr/>
          <p:nvPr/>
        </p:nvPicPr>
        <p:blipFill>
          <a:blip r:embed="rId2"/>
          <a:stretch/>
        </p:blipFill>
        <p:spPr>
          <a:xfrm>
            <a:off x="7924680" y="152280"/>
            <a:ext cx="803520" cy="974880"/>
          </a:xfrm>
          <a:prstGeom prst="rect">
            <a:avLst/>
          </a:prstGeom>
          <a:ln w="0">
            <a:noFill/>
          </a:ln>
        </p:spPr>
      </p:pic>
      <p:sp>
        <p:nvSpPr>
          <p:cNvPr id="625" name="TextBox 5"/>
          <p:cNvSpPr/>
          <p:nvPr/>
        </p:nvSpPr>
        <p:spPr>
          <a:xfrm>
            <a:off x="152280" y="10666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a Montess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7848720" y="1066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ne Rav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04040"/>
                </a:solidFill>
                <a:latin typeface="Georgia"/>
              </a:rPr>
              <a:t>Statement of the Hypothesi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R 1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ver a period of 10 weeks will plan and deliver a series of social studies lessons to a first grade class in two different settings (charter school and public school).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alf of the lessons will be teacher-centered instruction and the other half of the lessons will be student-centered instruction.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ssessments: Test to ascertain which instructional method yield the best academic performances.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Comparative study to determine if their findings were similar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End!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4" descr="http://tagadavao.files.wordpress.com/2008/07/applause.gif"/>
          <p:cNvPicPr/>
          <p:nvPr/>
        </p:nvPicPr>
        <p:blipFill>
          <a:blip r:embed="rId1"/>
          <a:stretch/>
        </p:blipFill>
        <p:spPr>
          <a:xfrm>
            <a:off x="2514600" y="1523880"/>
            <a:ext cx="4086360" cy="419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1:09:33Z</dcterms:created>
  <dc:creator>Windows User</dc:creator>
  <dc:description/>
  <dc:language>en-US</dc:language>
  <cp:lastModifiedBy>HP Authorized Customer</cp:lastModifiedBy>
  <dcterms:modified xsi:type="dcterms:W3CDTF">2010-10-19T21:55:01Z</dcterms:modified>
  <cp:revision>56</cp:revision>
  <dc:subject/>
  <dc:title>Slide 1</dc:title>
</cp:coreProperties>
</file>